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33A-C41D-4515-87D1-F45EA3F6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12C-F6FE-4AEE-9586-55CC373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407-B3B3-4DCD-83A7-D313BEB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E23-B441-4CF5-A01B-8AFA08EB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A0-1E65-4A69-BD61-E77E448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30B-9A47-489E-B121-42C80CFD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3B4-6065-49A3-AB5B-FB10640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A9D-0A5B-4632-B199-44175F8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FD8-3833-4069-93F8-1B5A1F9A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10B-2C43-4C0B-B8AE-CD8CE61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C64-C980-4BA4-99EF-07659B4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96C-194D-4C8F-BB50-FBE5D23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09E9-AECC-4094-87E9-F3C3B349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bs.org/wnet/closetohome/animation/gaba-anim-main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and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1033560"/>
            <a:ext cx="8915400" cy="5114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caine Euphoria and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gesics (pain kill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ine (Tylenol 3 and up, cough syrup in some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sychedel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Hallucinoge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th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feel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luc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yote, psilocybin as 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ter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amine oxid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 used to treat bipolar dis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not used extensively other than as treating mental illness or diseases related to the brain, Parkinson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hala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level: sniffing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us oxide: hypoxia is a danger (lack of oxy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ites: amyl nitrite (poppers, heart medication) butyl nitrite (Locker Ro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2"/>
          <p:cNvGrpSpPr/>
          <p:nvPr/>
        </p:nvGrpSpPr>
        <p:grpSpPr>
          <a:xfrm>
            <a:off x="762120" y="1006560"/>
            <a:ext cx="7010280" cy="5088960"/>
            <a:chOff x="762120" y="1006560"/>
            <a:chExt cx="7010280" cy="5088960"/>
          </a:xfrm>
        </p:grpSpPr>
        <p:pic>
          <p:nvPicPr>
            <p:cNvPr id="83" name="Picture 3" descr=""/>
            <p:cNvPicPr/>
            <p:nvPr/>
          </p:nvPicPr>
          <p:blipFill>
            <a:blip r:embed="rId1"/>
            <a:stretch/>
          </p:blipFill>
          <p:spPr>
            <a:xfrm>
              <a:off x="822960" y="1006560"/>
              <a:ext cx="350532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" descr=""/>
            <p:cNvPicPr/>
            <p:nvPr/>
          </p:nvPicPr>
          <p:blipFill>
            <a:blip r:embed="rId2"/>
            <a:stretch/>
          </p:blipFill>
          <p:spPr>
            <a:xfrm>
              <a:off x="762120" y="2758680"/>
              <a:ext cx="350496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"/>
            <p:cNvPicPr/>
            <p:nvPr/>
          </p:nvPicPr>
          <p:blipFill>
            <a:blip r:embed="rId3"/>
            <a:stretch/>
          </p:blipFill>
          <p:spPr>
            <a:xfrm>
              <a:off x="4267080" y="1097640"/>
              <a:ext cx="350532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"/>
            <p:cNvPicPr/>
            <p:nvPr/>
          </p:nvPicPr>
          <p:blipFill>
            <a:blip r:embed="rId4"/>
            <a:stretch/>
          </p:blipFill>
          <p:spPr>
            <a:xfrm>
              <a:off x="4267080" y="2835000"/>
              <a:ext cx="350532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"/>
            <p:cNvPicPr/>
            <p:nvPr/>
          </p:nvPicPr>
          <p:blipFill>
            <a:blip r:embed="rId5"/>
            <a:stretch/>
          </p:blipFill>
          <p:spPr>
            <a:xfrm>
              <a:off x="1097280" y="4572000"/>
              <a:ext cx="3505320" cy="15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s on Drug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and Cultural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55480" y="814320"/>
            <a:ext cx="8026560" cy="5232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nds in Drug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819520" cy="22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301968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867280" y="4495680"/>
            <a:ext cx="2810160" cy="1543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25714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0" y="2133720"/>
            <a:ext cx="3433680" cy="28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6019920" y="228600"/>
            <a:ext cx="242064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6095880" y="2438280"/>
            <a:ext cx="278604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3276720" y="4162320"/>
            <a:ext cx="2857320" cy="269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228600" y="3909960"/>
            <a:ext cx="32767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55480" y="954000"/>
            <a:ext cx="8026560" cy="4953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ived Marijuana Risk and Actual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and Ad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conceptions About Ad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93920" y="712800"/>
            <a:ext cx="6350040" cy="5435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ctive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 with the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 mood, perception, and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affeine to her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six (or three) different families of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has its own effect on the CNS and members of it will have varying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ctive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bitu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lucin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ly used in society: alcoh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dating effect on the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those under stress, especially val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bs.org/wnet/closetohome/animation/gaba-anim-main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 of euphoric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412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mula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ffeine is the most commonly used in this categ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he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aine and rock coc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4:06:33Z</dcterms:created>
  <dc:creator>bfw</dc:creator>
  <dc:description/>
  <dc:language>en-US</dc:language>
  <cp:lastModifiedBy>MacAdmin Kis</cp:lastModifiedBy>
  <dcterms:modified xsi:type="dcterms:W3CDTF">2008-10-16T05:28:35Z</dcterms:modified>
  <cp:revision>14</cp:revision>
  <dc:subject/>
  <dc:title>Module 19 Drugs and Consciousness</dc:title>
</cp:coreProperties>
</file>